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480" y="0"/>
            <a:ext cx="2943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08960"/>
            <a:ext cx="2943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48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5E1C7-A3B5-4ED1-8AB1-5661EB956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mage up, pulse given 25 nm before top of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image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is: we were able to shorten the MWNT tip in air without loosing it complet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difficult, more difficult than in SEM where you can see what you are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abilities happen only on regions with high corru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E31A-2119-45B1-88E5-60935E2EE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9CCA-8AE7-425B-B11D-B7B7CA6E1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60F4-8CA1-4DB8-BDD0-D25C6D049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0293-90C1-404F-BAE1-6846ABEE9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BFC9-CF72-462B-86F9-594EF6F1A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2D46-F774-460C-8B81-000C9C8AD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0505-85FA-4927-873D-C8A47EB27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179C-4D11-4A54-B596-908ECEF88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E10D-6B81-4143-B3CA-D818CB12C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63C3-F204-455E-85DF-CBB69D544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88B2-8BE3-4AE1-BBA7-8B4DE92A2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2DAC-5B46-4769-B74D-B0F9D14CF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02CE0-44DA-4C2E-B4E7-594E2F08DB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27162" r="0" b="49991"/>
          <a:stretch/>
        </p:blipFill>
        <p:spPr>
          <a:xfrm>
            <a:off x="347760" y="4489560"/>
            <a:ext cx="8447040" cy="1447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17880" y="9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>
            <a:lum contrast="18000"/>
          </a:blip>
          <a:srcRect l="1802" t="50515" r="71134" b="32648"/>
          <a:stretch/>
        </p:blipFill>
        <p:spPr>
          <a:xfrm>
            <a:off x="609480" y="907920"/>
            <a:ext cx="3962520" cy="18496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556960" y="755640"/>
            <a:ext cx="25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Z piezo step 277 n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609480" y="12891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0720" y="533520"/>
            <a:ext cx="124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c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867280" y="1365120"/>
            <a:ext cx="2362320" cy="1968480"/>
            <a:chOff x="5867280" y="1365120"/>
            <a:chExt cx="2362320" cy="1968480"/>
          </a:xfrm>
        </p:grpSpPr>
        <p:pic>
          <p:nvPicPr>
            <p:cNvPr id="55" name="" descr=""/>
            <p:cNvPicPr/>
            <p:nvPr/>
          </p:nvPicPr>
          <p:blipFill>
            <a:blip r:embed="rId3"/>
            <a:srcRect l="37379" t="9122" r="46383" b="72841"/>
            <a:stretch/>
          </p:blipFill>
          <p:spPr>
            <a:xfrm>
              <a:off x="5867280" y="1365120"/>
              <a:ext cx="2362320" cy="196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6095880" y="281268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98720" y="3657600"/>
            <a:ext cx="610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 if MWNT is short enough for imag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age thin niobium film, grain size around 10 n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8920" y="5997600"/>
            <a:ext cx="840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bit too long: feedback instabilities are caused by bending response of MW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713040" y="6424560"/>
            <a:ext cx="538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f. Snow, E.S., Campbell, P.M., and Novak, J.P., APL 80 (2002), 2002-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0:20:09Z</dcterms:created>
  <dc:creator>Dionne</dc:creator>
  <dc:description/>
  <dc:language>en-US</dc:language>
  <cp:lastModifiedBy>Dionne</cp:lastModifiedBy>
  <dcterms:modified xsi:type="dcterms:W3CDTF">2005-01-24T10:27:31Z</dcterms:modified>
  <cp:revision>2</cp:revision>
  <dc:subject/>
  <dc:title>Slide 1</dc:title>
</cp:coreProperties>
</file>